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8FB-A3BC-43CF-98F9-57D89AF7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809-46E6-4E13-8625-0CF2B221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121-8CBA-42FC-8218-56831B3D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DE8-E429-4BD1-8AC8-163B30F2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27D-EA2F-4BCD-94CB-A22BD22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238-7430-4337-8E77-C1CAF12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EA1-0E65-44F4-B006-F24D230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5EC-7C15-467C-88AA-7DCB91ED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69C-EDC2-45EF-ACDB-92FCBEEE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058-D25A-49D2-BD90-4D489C3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68D-63E1-4C2E-AF2D-392F106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DA7-0E07-4210-B41E-8E69784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50F5-E341-4543-858C-C61126CE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1295280"/>
          <a:ext cx="1523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523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1:33:03Z</dcterms:created>
  <dc:creator>MainMachine</dc:creator>
  <dc:description/>
  <dc:language>en-US</dc:language>
  <cp:lastModifiedBy>MainMachine</cp:lastModifiedBy>
  <dcterms:modified xsi:type="dcterms:W3CDTF">2009-07-29T11:34:36Z</dcterms:modified>
  <cp:revision>3</cp:revision>
  <dc:subject/>
  <dc:title>Slide 1</dc:title>
</cp:coreProperties>
</file>